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871-F53E-4640-AEB7-BC87776E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0B8-D069-49A8-9A3A-063FC915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04E-291D-4B34-A8F9-96D39AC7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96A-1837-4DE9-BE04-16479749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55F-647B-44EB-90E9-3D40A10F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6C0-2CF4-4C5D-AACA-72527EF0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2C7-8996-4D1D-9E07-451F5813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1B1-5D7D-4288-893D-3886528E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884-A204-410F-AA72-C10AEF2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95F-6971-4348-BD6A-7E19EC36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82A-7C7D-4462-8DF8-C45C226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7ED-4CFC-4105-A97C-C7A2821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442-8B1B-47CD-8447-D69961757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5 Vždy bližšie pri t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bližšie pri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, Pane chce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ez teba na svete žiť nemôžem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íž, príval star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u a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voj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ť nevlád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ako Jákob,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ame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očiniem únavou premože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sa zrieť rebrík t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pája s nebom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jich túžob s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ždy sa pomi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, spánku čas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a dovedi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veď ma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dolia bole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ojej blízk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ý j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17:30Z</dcterms:modified>
  <cp:revision>21</cp:revision>
  <dc:subject/>
  <dc:title>Je veľký náš Pán, on slávy je Kráľ Nech do všetkých strán  spev vrúcnych znie chvál.</dc:title>
</cp:coreProperties>
</file>